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5242-58D2-4775-AC7D-57472CCCF10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ention that for Q2=1, we might have more resolved process, but the dominant channel is still PGF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hat are the central topics in the eA program at eR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asic task is to understand nuclei structure in terms of quarks and glu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ihadron to study satu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nergy span to study parton energy loss and space-time evolution of hadronizat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VCS and diffractive help to extract the gluon spatial and momentum inform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Raju:  Di-hadron correlations are a test of universality because the same measurement in p+A and e+A is sensitive to "dipole" and "quadrupole" operators which are the same for both proc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As opposed to a quark bound in a proton or deuteron, onset of saturation regime is controlled by changing the centrality or reducing the di-hadron rapdity, the exact kinematics of the process allows for a much cleaner extraction of the physic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Say saturation happens below the 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A plot from tho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In and out from the saturation regime to see the difference of sat and non-sat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example kinematics region in our analysis is in the saturation region of gold nucleus, expected to see strong saturation sig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90"/>
                </a:solidFill>
                <a:latin typeface="Arial"/>
              </a:rPr>
              <a:t>Pronounced signal with well controlled kinematics and clean background strongly constrains the saturation model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BD3D-BBA9-4D1B-A08C-40A2C927B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2535-9A91-40BF-95F0-A422315C4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C383-CF46-41A4-8E1C-B17CDF86E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96D2-EBA2-41F5-B8B1-C7AFCF66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379F-F344-4130-8EDE-65753B62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021E-8910-4A53-A382-2816DDA0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8EF6-6A97-46DA-B96A-A79B0F46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95D6-9213-45FB-BBA4-DC5A8329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50F8-0D8C-4309-9942-FE456788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3922-FD86-4DB4-981D-B74792F1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CACC-9161-46F0-B965-FBDD95A3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F106-7939-4AF9-81F6-5C388FFF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1002-0A48-4E7B-82EE-33D7D8C79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4880" cy="3338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0"/>
                </a:solidFill>
                <a:latin typeface="Comic Sans MS"/>
              </a:rPr>
              <a:t>Dihadron Correlation in the eA program at an Electron Ion Colli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5812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Liang Zhe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Brookhaven National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Institute of Particle Physics, Central China Normal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9440" cy="11746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705720" y="0"/>
            <a:ext cx="2438280" cy="8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vision of Nuclear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erican Physical Socie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tober 24-27, 20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705720" y="3581280"/>
            <a:ext cx="136980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Dihadron correlation is sensitive to the saturation phys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 generic Monte Carlo generator developed based on pQCD calculation in vacuum with flexible nuclear effects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eRHIC offers 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unique opportunities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to study the saturation physics precis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Provides the knowledge of 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initial state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of heavy ion collis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0120" y="5410080"/>
            <a:ext cx="1276200" cy="130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P-Liang Zhe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7617-4077-4382-BA95-F9FF35C601A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362320" y="2666880"/>
            <a:ext cx="480060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0"/>
                </a:solidFill>
                <a:latin typeface="Comic Sans MS"/>
              </a:rPr>
              <a:t>Back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P-Liang Zhe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AADF-06B1-4834-B241-D0C92AD41CB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Detector requi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19720" y="1523880"/>
            <a:ext cx="350496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For ep 30x10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Bin : 0.5&lt;Q2&lt;1.5, 0.6&lt;y&lt;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Scattered e</a:t>
            </a:r>
            <a:r>
              <a:rPr b="1" lang="zh-CN" sz="1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 : &lt;E&gt;=9.00GeV,&lt;θ&gt;=176.51</a:t>
            </a:r>
            <a:r>
              <a:rPr b="1" lang="zh-CN" sz="12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523880"/>
            <a:ext cx="327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attered electron pseudo-rap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3962520"/>
            <a:ext cx="2209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ading particle sp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324480" y="2438280"/>
            <a:ext cx="2590920" cy="11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Trigger/associate particle c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|η|&lt;4  ( 2</a:t>
            </a:r>
            <a:r>
              <a:rPr b="1" lang="zh-CN" sz="12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&lt;θ&lt;178</a:t>
            </a:r>
            <a:r>
              <a:rPr b="1" lang="zh-CN" sz="1200" spc="-1" strike="noStrike" baseline="30000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 ),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zh-CN" sz="1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zh-CN" sz="1200" spc="-1" strike="noStrike" baseline="30000">
                <a:solidFill>
                  <a:srgbClr val="000000"/>
                </a:solidFill>
                <a:latin typeface="Comic Sans MS"/>
              </a:rPr>
              <a:t>Trig</a:t>
            </a: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&gt;2,  1&lt;p</a:t>
            </a:r>
            <a:r>
              <a:rPr b="1" lang="zh-CN" sz="12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zh-CN" sz="1200" spc="-1" strike="noStrike" baseline="30000">
                <a:solidFill>
                  <a:srgbClr val="000000"/>
                </a:solidFill>
                <a:latin typeface="Comic Sans MS"/>
              </a:rPr>
              <a:t>Asso</a:t>
            </a: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&lt;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0.15&lt;z </a:t>
            </a:r>
            <a:r>
              <a:rPr b="1" lang="zh-CN" sz="1200" spc="-1" strike="noStrike" baseline="30000">
                <a:solidFill>
                  <a:srgbClr val="000000"/>
                </a:solidFill>
                <a:latin typeface="Comic Sans MS"/>
              </a:rPr>
              <a:t>Trig,Asso</a:t>
            </a: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&lt;0.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581280" y="2438280"/>
            <a:ext cx="2743200" cy="1371600"/>
            <a:chOff x="3581280" y="2438280"/>
            <a:chExt cx="2743200" cy="1371600"/>
          </a:xfrm>
        </p:grpSpPr>
        <p:sp>
          <p:nvSpPr>
            <p:cNvPr id="228" name=""/>
            <p:cNvSpPr/>
            <p:nvPr/>
          </p:nvSpPr>
          <p:spPr>
            <a:xfrm>
              <a:off x="5029200" y="2438280"/>
              <a:ext cx="1295280" cy="1295640"/>
            </a:xfrm>
            <a:prstGeom prst="rect">
              <a:avLst/>
            </a:prstGeom>
            <a:solidFill>
              <a:srgbClr val="ff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η &gt;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81280" y="2438280"/>
              <a:ext cx="1447920" cy="129564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η &lt;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29200" y="243828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4952880" y="2743200"/>
              <a:ext cx="150840" cy="714240"/>
              <a:chOff x="4952880" y="2743200"/>
              <a:chExt cx="150840" cy="714240"/>
            </a:xfrm>
          </p:grpSpPr>
          <p:sp>
            <p:nvSpPr>
              <p:cNvPr id="232" name=""/>
              <p:cNvSpPr/>
              <p:nvPr/>
            </p:nvSpPr>
            <p:spPr>
              <a:xfrm>
                <a:off x="4952880" y="2743200"/>
                <a:ext cx="150840" cy="714240"/>
              </a:xfrm>
              <a:custGeom>
                <a:avLst/>
                <a:gdLst/>
                <a:ahLst/>
                <a:rect l="l" t="t" r="r" b="b"/>
                <a:pathLst>
                  <a:path w="95" h="450">
                    <a:moveTo>
                      <a:pt x="50" y="90"/>
                    </a:moveTo>
                    <a:lnTo>
                      <a:pt x="42" y="39"/>
                    </a:lnTo>
                    <a:lnTo>
                      <a:pt x="37" y="133"/>
                    </a:lnTo>
                    <a:lnTo>
                      <a:pt x="20" y="75"/>
                    </a:lnTo>
                    <a:lnTo>
                      <a:pt x="23" y="162"/>
                    </a:lnTo>
                    <a:lnTo>
                      <a:pt x="5" y="172"/>
                    </a:lnTo>
                    <a:lnTo>
                      <a:pt x="17" y="241"/>
                    </a:lnTo>
                    <a:lnTo>
                      <a:pt x="0" y="268"/>
                    </a:lnTo>
                    <a:lnTo>
                      <a:pt x="14" y="319"/>
                    </a:lnTo>
                    <a:lnTo>
                      <a:pt x="6" y="371"/>
                    </a:lnTo>
                    <a:lnTo>
                      <a:pt x="21" y="379"/>
                    </a:lnTo>
                    <a:lnTo>
                      <a:pt x="21" y="449"/>
                    </a:lnTo>
                    <a:lnTo>
                      <a:pt x="33" y="377"/>
                    </a:lnTo>
                    <a:lnTo>
                      <a:pt x="38" y="410"/>
                    </a:lnTo>
                    <a:lnTo>
                      <a:pt x="43" y="361"/>
                    </a:lnTo>
                    <a:lnTo>
                      <a:pt x="51" y="392"/>
                    </a:lnTo>
                    <a:lnTo>
                      <a:pt x="53" y="331"/>
                    </a:lnTo>
                    <a:lnTo>
                      <a:pt x="65" y="361"/>
                    </a:lnTo>
                    <a:lnTo>
                      <a:pt x="64" y="298"/>
                    </a:lnTo>
                    <a:lnTo>
                      <a:pt x="82" y="325"/>
                    </a:lnTo>
                    <a:lnTo>
                      <a:pt x="71" y="256"/>
                    </a:lnTo>
                    <a:lnTo>
                      <a:pt x="80" y="235"/>
                    </a:lnTo>
                    <a:lnTo>
                      <a:pt x="74" y="195"/>
                    </a:lnTo>
                    <a:lnTo>
                      <a:pt x="94" y="138"/>
                    </a:lnTo>
                    <a:lnTo>
                      <a:pt x="71" y="136"/>
                    </a:lnTo>
                    <a:lnTo>
                      <a:pt x="78" y="66"/>
                    </a:lnTo>
                    <a:lnTo>
                      <a:pt x="63" y="120"/>
                    </a:lnTo>
                    <a:lnTo>
                      <a:pt x="64" y="0"/>
                    </a:lnTo>
                    <a:lnTo>
                      <a:pt x="50" y="90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  <a:effectLst>
                <a:outerShdw dist="22320" dir="54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027760" y="2973240"/>
                <a:ext cx="3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3657600" y="3124080"/>
              <a:ext cx="12952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5105160" y="3124080"/>
              <a:ext cx="685800" cy="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67080" y="3276720"/>
              <a:ext cx="381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81480" y="3276720"/>
              <a:ext cx="381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Arial"/>
                </a:rPr>
                <a:t>e</a:t>
              </a:r>
              <a:r>
                <a:rPr b="0" lang="en-US" sz="1800" spc="-1" strike="noStrike" baseline="30000">
                  <a:solidFill>
                    <a:srgbClr val="0000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4572000" y="2819160"/>
              <a:ext cx="457200" cy="228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3276360" cy="22510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3048120" cy="207000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457200" y="4257720"/>
            <a:ext cx="3289320" cy="2079720"/>
            <a:chOff x="457200" y="4257720"/>
            <a:chExt cx="3289320" cy="2079720"/>
          </a:xfrm>
        </p:grpSpPr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457200" y="4257720"/>
              <a:ext cx="3289320" cy="20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1143000" y="4267080"/>
              <a:ext cx="762120" cy="1828800"/>
            </a:xfrm>
            <a:prstGeom prst="rect">
              <a:avLst/>
            </a:prstGeom>
            <a:solidFill>
              <a:srgbClr val="ff33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1066680" y="4267080"/>
            <a:ext cx="8384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P-Liang Zhe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66F4-64FE-48B4-8D94-A181922A124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2374920" cy="17953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3657600" y="3809880"/>
            <a:ext cx="3395520" cy="24066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Comic Sans MS"/>
              </a:rPr>
              <a:t>Dihadron correlation at eRH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4419720"/>
            <a:ext cx="68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5486400"/>
            <a:ext cx="685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72200" y="5257800"/>
            <a:ext cx="685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116240" y="4040280"/>
            <a:ext cx="758880" cy="2282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781680" y="2438280"/>
            <a:ext cx="1905120" cy="13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ominant process: Photon Gluon Fusion (PGF), sensitive to the property of strong gluon fiel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0" y="1676520"/>
            <a:ext cx="2365200" cy="17748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828800" y="12193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457200" y="4191120"/>
            <a:ext cx="2108160" cy="1670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143000" y="380988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5"/>
          <a:stretch/>
        </p:blipFill>
        <p:spPr>
          <a:xfrm>
            <a:off x="4533840" y="1676520"/>
            <a:ext cx="2336760" cy="17366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219640" y="137160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2895480" y="3428640"/>
            <a:ext cx="144792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86600" y="4419720"/>
            <a:ext cx="13716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from PYTHIA 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P-Liang Zhe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D112-F806-4C50-B90C-FD2BE6071F0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omic Sans MS"/>
              </a:rPr>
              <a:t>Electron-Ion (eA) program will investigate the nuclei structure with great pr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Probing gluon dynamics, establish the existence of the saturation regi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Obtain a spatial image for the nucle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Precisely measure nuclear parton distribution function in a wide ran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Study the parton propagation and hadronization in cold nuclear med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</a:rPr>
              <a:t>Dihadron correlation is a key measurement in the eA program to help us explore the saturation physi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85760" y="4114800"/>
            <a:ext cx="1731960" cy="155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705720" y="4114800"/>
            <a:ext cx="2365200" cy="1403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2057400" y="4191120"/>
            <a:ext cx="2603520" cy="14284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Moti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724280" y="4114800"/>
            <a:ext cx="2070360" cy="140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P-Liang Zhe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6577-5DBC-4922-A3C2-90B8ACC71EF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0"/>
                </a:solidFill>
                <a:latin typeface="Comic Sans MS"/>
              </a:rPr>
              <a:t>Explore the saturation reg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2992680" cy="2950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352680" y="2438280"/>
            <a:ext cx="2776680" cy="1366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172200" y="2670120"/>
            <a:ext cx="901800" cy="100008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5327640" y="2889360"/>
            <a:ext cx="3130560" cy="1514520"/>
            <a:chOff x="5327640" y="2889360"/>
            <a:chExt cx="3130560" cy="1514520"/>
          </a:xfrm>
        </p:grpSpPr>
        <p:sp>
          <p:nvSpPr>
            <p:cNvPr id="65" name=""/>
            <p:cNvSpPr/>
            <p:nvPr/>
          </p:nvSpPr>
          <p:spPr>
            <a:xfrm>
              <a:off x="6470640" y="2889360"/>
              <a:ext cx="317520" cy="317520"/>
            </a:xfrm>
            <a:prstGeom prst="ellipse">
              <a:avLst/>
            </a:prstGeom>
            <a:noFill/>
            <a:ln w="255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27640" y="3346560"/>
              <a:ext cx="241200" cy="241200"/>
            </a:xfrm>
            <a:prstGeom prst="ellipse">
              <a:avLst/>
            </a:prstGeom>
            <a:noFill/>
            <a:ln w="255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5562360" y="3580920"/>
              <a:ext cx="1143000" cy="228600"/>
            </a:xfrm>
            <a:prstGeom prst="line">
              <a:avLst/>
            </a:prstGeom>
            <a:ln w="25560">
              <a:solidFill>
                <a:srgbClr val="a50021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6705360" y="3200400"/>
              <a:ext cx="228600" cy="457200"/>
            </a:xfrm>
            <a:prstGeom prst="line">
              <a:avLst/>
            </a:prstGeom>
            <a:ln w="25560">
              <a:solidFill>
                <a:srgbClr val="a50021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629400" y="3581280"/>
              <a:ext cx="182880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Comic Sans MS"/>
                  <a:ea typeface="Arial Unicode MS"/>
                </a:rPr>
                <a:t>Mechanism for gluon satu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609480" y="4176720"/>
            <a:ext cx="3276720" cy="793800"/>
            <a:chOff x="609480" y="4176720"/>
            <a:chExt cx="3276720" cy="793800"/>
          </a:xfrm>
        </p:grpSpPr>
        <p:grpSp>
          <p:nvGrpSpPr>
            <p:cNvPr id="71" name=""/>
            <p:cNvGrpSpPr/>
            <p:nvPr/>
          </p:nvGrpSpPr>
          <p:grpSpPr>
            <a:xfrm>
              <a:off x="609480" y="4176720"/>
              <a:ext cx="2016360" cy="793800"/>
              <a:chOff x="609480" y="4176720"/>
              <a:chExt cx="2016360" cy="793800"/>
            </a:xfrm>
          </p:grpSpPr>
          <p:pic>
            <p:nvPicPr>
              <p:cNvPr id="7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668600" y="4176720"/>
                <a:ext cx="957240" cy="79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" name=""/>
              <p:cNvSpPr/>
              <p:nvPr/>
            </p:nvSpPr>
            <p:spPr>
              <a:xfrm>
                <a:off x="609480" y="4495680"/>
                <a:ext cx="126072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Comic Sans MS"/>
                  </a:rPr>
                  <a:t>BFKL(linear QCD)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2475000" y="4495680"/>
              <a:ext cx="14112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Gluon density increa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09480" y="5014800"/>
            <a:ext cx="3272040" cy="789120"/>
            <a:chOff x="609480" y="5014800"/>
            <a:chExt cx="3272040" cy="789120"/>
          </a:xfrm>
        </p:grpSpPr>
        <p:grpSp>
          <p:nvGrpSpPr>
            <p:cNvPr id="76" name=""/>
            <p:cNvGrpSpPr/>
            <p:nvPr/>
          </p:nvGrpSpPr>
          <p:grpSpPr>
            <a:xfrm>
              <a:off x="609480" y="5014800"/>
              <a:ext cx="2025720" cy="789120"/>
              <a:chOff x="609480" y="5014800"/>
              <a:chExt cx="2025720" cy="789120"/>
            </a:xfrm>
          </p:grpSpPr>
          <p:pic>
            <p:nvPicPr>
              <p:cNvPr id="7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631880" y="5014800"/>
                <a:ext cx="1003320" cy="78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" name=""/>
              <p:cNvSpPr/>
              <p:nvPr/>
            </p:nvSpPr>
            <p:spPr>
              <a:xfrm>
                <a:off x="609480" y="5321160"/>
                <a:ext cx="10224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Comic Sans MS"/>
                  </a:rPr>
                  <a:t>BK(non-linear):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2449440" y="5245200"/>
              <a:ext cx="14320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Gluon density tam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5257800" y="4357800"/>
            <a:ext cx="3289320" cy="2360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4191120" y="5410080"/>
            <a:ext cx="879480" cy="2890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4267080" y="4572000"/>
            <a:ext cx="698760" cy="58572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1595520" y="1819440"/>
            <a:ext cx="3359160" cy="3287520"/>
            <a:chOff x="1595520" y="1819440"/>
            <a:chExt cx="3359160" cy="3287520"/>
          </a:xfrm>
        </p:grpSpPr>
        <p:sp>
          <p:nvSpPr>
            <p:cNvPr id="84" name=""/>
            <p:cNvSpPr/>
            <p:nvPr/>
          </p:nvSpPr>
          <p:spPr>
            <a:xfrm>
              <a:off x="1595520" y="1819440"/>
              <a:ext cx="3359160" cy="3287520"/>
            </a:xfrm>
            <a:custGeom>
              <a:avLst/>
              <a:gdLst/>
              <a:ahLst/>
              <a:rect l="l" t="t" r="r" b="b"/>
              <a:pathLst>
                <a:path w="2116" h="2071">
                  <a:moveTo>
                    <a:pt x="1683" y="1734"/>
                  </a:moveTo>
                  <a:lnTo>
                    <a:pt x="1683" y="1790"/>
                  </a:lnTo>
                  <a:lnTo>
                    <a:pt x="1683" y="1790"/>
                  </a:lnTo>
                  <a:lnTo>
                    <a:pt x="1683" y="1874"/>
                  </a:lnTo>
                  <a:lnTo>
                    <a:pt x="1683" y="2070"/>
                  </a:lnTo>
                  <a:lnTo>
                    <a:pt x="1755" y="2070"/>
                  </a:lnTo>
                  <a:lnTo>
                    <a:pt x="1755" y="2070"/>
                  </a:lnTo>
                  <a:lnTo>
                    <a:pt x="1863" y="2070"/>
                  </a:lnTo>
                  <a:lnTo>
                    <a:pt x="2115" y="2070"/>
                  </a:lnTo>
                  <a:lnTo>
                    <a:pt x="2115" y="1874"/>
                  </a:lnTo>
                  <a:lnTo>
                    <a:pt x="2115" y="1790"/>
                  </a:lnTo>
                  <a:lnTo>
                    <a:pt x="2115" y="1790"/>
                  </a:lnTo>
                  <a:lnTo>
                    <a:pt x="2115" y="1734"/>
                  </a:lnTo>
                  <a:lnTo>
                    <a:pt x="1863" y="1734"/>
                  </a:lnTo>
                  <a:lnTo>
                    <a:pt x="0" y="0"/>
                  </a:lnTo>
                  <a:lnTo>
                    <a:pt x="1755" y="1734"/>
                  </a:lnTo>
                  <a:lnTo>
                    <a:pt x="1683" y="173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63920" y="4622760"/>
              <a:ext cx="4921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" descr=""/>
          <p:cNvPicPr/>
          <p:nvPr/>
        </p:nvPicPr>
        <p:blipFill>
          <a:blip r:embed="rId9"/>
          <a:stretch/>
        </p:blipFill>
        <p:spPr>
          <a:xfrm>
            <a:off x="5791320" y="1219320"/>
            <a:ext cx="2298600" cy="160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P-Liang Zhe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3F67-C616-4796-B0F6-11C95D21C78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0"/>
                </a:solidFill>
                <a:latin typeface="Comic Sans MS"/>
              </a:rPr>
              <a:t>What can we learn from dihadron corre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37080" y="1508040"/>
            <a:ext cx="2666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al Yiel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1689120" cy="641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954400" y="1523880"/>
            <a:ext cx="117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tr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6120" y="3124080"/>
            <a:ext cx="151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assoc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59520" y="1890720"/>
            <a:ext cx="761760" cy="304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78280" y="2119320"/>
            <a:ext cx="762120" cy="457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90960" y="2514600"/>
            <a:ext cx="52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07600" y="1600200"/>
            <a:ext cx="1573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Beam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or transverse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41880" y="1542960"/>
            <a:ext cx="221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usually leading 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1905120"/>
            <a:ext cx="27432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Nearside peak: delivers jet fragmentation information from final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3124080"/>
            <a:ext cx="2514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omic Sans MS"/>
              </a:rPr>
              <a:t>Awayside peak: related with the medium kt kick from initial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13600" y="2743200"/>
            <a:ext cx="130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arXiv:1008.3989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94040" y="4114800"/>
            <a:ext cx="23169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mic Sans MS"/>
                <a:ea typeface="MS PGothic"/>
              </a:rPr>
              <a:t>With high gluon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5562720"/>
            <a:ext cx="4647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MS PGothic"/>
              </a:rPr>
              <a:t>Multiple emissions decorrelate of away-side as predicted by satura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943600" y="4495680"/>
            <a:ext cx="1854360" cy="927360"/>
            <a:chOff x="5943600" y="4495680"/>
            <a:chExt cx="1854360" cy="927360"/>
          </a:xfrm>
        </p:grpSpPr>
        <p:pic>
          <p:nvPicPr>
            <p:cNvPr id="103" name="" descr=""/>
            <p:cNvPicPr/>
            <p:nvPr/>
          </p:nvPicPr>
          <p:blipFill>
            <a:blip r:embed="rId2"/>
            <a:stretch/>
          </p:blipFill>
          <p:spPr>
            <a:xfrm>
              <a:off x="5943600" y="4495680"/>
              <a:ext cx="50796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438960" y="4956120"/>
              <a:ext cx="1359000" cy="0"/>
            </a:xfrm>
            <a:prstGeom prst="line">
              <a:avLst/>
            </a:prstGeom>
            <a:ln w="25560">
              <a:solidFill>
                <a:srgbClr val="29008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50160" y="4552920"/>
              <a:ext cx="24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marL="396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 flipH="1">
            <a:off x="4723920" y="4952880"/>
            <a:ext cx="1227240" cy="0"/>
          </a:xfrm>
          <a:prstGeom prst="line">
            <a:avLst/>
          </a:prstGeom>
          <a:ln w="25560">
            <a:solidFill>
              <a:srgbClr val="d90b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190920" y="4965840"/>
            <a:ext cx="816480" cy="573120"/>
            <a:chOff x="6190920" y="4965840"/>
            <a:chExt cx="816480" cy="573120"/>
          </a:xfrm>
        </p:grpSpPr>
        <p:grpSp>
          <p:nvGrpSpPr>
            <p:cNvPr id="108" name=""/>
            <p:cNvGrpSpPr/>
            <p:nvPr/>
          </p:nvGrpSpPr>
          <p:grpSpPr>
            <a:xfrm>
              <a:off x="6190920" y="4965840"/>
              <a:ext cx="816480" cy="573120"/>
              <a:chOff x="6190920" y="4965840"/>
              <a:chExt cx="816480" cy="573120"/>
            </a:xfrm>
          </p:grpSpPr>
          <p:sp>
            <p:nvSpPr>
              <p:cNvPr id="109" name=""/>
              <p:cNvSpPr/>
              <p:nvPr/>
            </p:nvSpPr>
            <p:spPr>
              <a:xfrm flipH="1" flipV="1">
                <a:off x="6190920" y="4973400"/>
                <a:ext cx="577800" cy="253800"/>
              </a:xfrm>
              <a:prstGeom prst="line">
                <a:avLst/>
              </a:prstGeom>
              <a:ln w="25560">
                <a:solidFill>
                  <a:srgbClr val="29008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6400800" y="5083200"/>
                <a:ext cx="196920" cy="289080"/>
                <a:chOff x="6400800" y="5083200"/>
                <a:chExt cx="196920" cy="2890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6462720" y="5176800"/>
                  <a:ext cx="73080" cy="84240"/>
                </a:xfrm>
                <a:custGeom>
                  <a:avLst/>
                  <a:gdLst/>
                  <a:ahLst/>
                  <a:rect l="l" t="t" r="r" b="b"/>
                  <a:pathLst>
                    <a:path w="46" h="53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11" y="1"/>
                      </a:lnTo>
                      <a:lnTo>
                        <a:pt x="22" y="0"/>
                      </a:lnTo>
                      <a:lnTo>
                        <a:pt x="32" y="4"/>
                      </a:lnTo>
                      <a:lnTo>
                        <a:pt x="40" y="12"/>
                      </a:lnTo>
                      <a:lnTo>
                        <a:pt x="45" y="22"/>
                      </a:lnTo>
                      <a:lnTo>
                        <a:pt x="45" y="33"/>
                      </a:lnTo>
                      <a:lnTo>
                        <a:pt x="40" y="43"/>
                      </a:lnTo>
                      <a:lnTo>
                        <a:pt x="32" y="51"/>
                      </a:lnTo>
                      <a:lnTo>
                        <a:pt x="32" y="52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440400" y="5189400"/>
                  <a:ext cx="50760" cy="44640"/>
                </a:xfrm>
                <a:custGeom>
                  <a:avLst/>
                  <a:gdLst/>
                  <a:ahLst/>
                  <a:rect l="l" t="t" r="r" b="b"/>
                  <a:pathLst>
                    <a:path w="32" h="28">
                      <a:moveTo>
                        <a:pt x="31" y="17"/>
                      </a:moveTo>
                      <a:lnTo>
                        <a:pt x="31" y="17"/>
                      </a:lnTo>
                      <a:lnTo>
                        <a:pt x="21" y="23"/>
                      </a:lnTo>
                      <a:lnTo>
                        <a:pt x="12" y="26"/>
                      </a:lnTo>
                      <a:lnTo>
                        <a:pt x="5" y="27"/>
                      </a:lnTo>
                      <a:lnTo>
                        <a:pt x="1" y="25"/>
                      </a:lnTo>
                      <a:lnTo>
                        <a:pt x="0" y="20"/>
                      </a:lnTo>
                      <a:lnTo>
                        <a:pt x="4" y="14"/>
                      </a:lnTo>
                      <a:lnTo>
                        <a:pt x="10" y="7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429240" y="5127480"/>
                  <a:ext cx="73080" cy="84240"/>
                </a:xfrm>
                <a:custGeom>
                  <a:avLst/>
                  <a:gdLst/>
                  <a:ahLst/>
                  <a:rect l="l" t="t" r="r" b="b"/>
                  <a:pathLst>
                    <a:path w="46" h="53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11" y="0"/>
                      </a:lnTo>
                      <a:lnTo>
                        <a:pt x="22" y="0"/>
                      </a:lnTo>
                      <a:lnTo>
                        <a:pt x="32" y="3"/>
                      </a:lnTo>
                      <a:lnTo>
                        <a:pt x="40" y="11"/>
                      </a:lnTo>
                      <a:lnTo>
                        <a:pt x="45" y="21"/>
                      </a:lnTo>
                      <a:lnTo>
                        <a:pt x="45" y="33"/>
                      </a:lnTo>
                      <a:lnTo>
                        <a:pt x="41" y="43"/>
                      </a:lnTo>
                      <a:lnTo>
                        <a:pt x="32" y="51"/>
                      </a:lnTo>
                      <a:lnTo>
                        <a:pt x="32" y="52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6405480" y="5141880"/>
                  <a:ext cx="50760" cy="44640"/>
                </a:xfrm>
                <a:custGeom>
                  <a:avLst/>
                  <a:gdLst/>
                  <a:ahLst/>
                  <a:rect l="l" t="t" r="r" b="b"/>
                  <a:pathLst>
                    <a:path w="32" h="28">
                      <a:moveTo>
                        <a:pt x="31" y="17"/>
                      </a:moveTo>
                      <a:lnTo>
                        <a:pt x="31" y="17"/>
                      </a:lnTo>
                      <a:lnTo>
                        <a:pt x="21" y="23"/>
                      </a:lnTo>
                      <a:lnTo>
                        <a:pt x="12" y="26"/>
                      </a:lnTo>
                      <a:lnTo>
                        <a:pt x="5" y="27"/>
                      </a:lnTo>
                      <a:lnTo>
                        <a:pt x="1" y="25"/>
                      </a:lnTo>
                      <a:lnTo>
                        <a:pt x="0" y="20"/>
                      </a:lnTo>
                      <a:lnTo>
                        <a:pt x="4" y="14"/>
                      </a:lnTo>
                      <a:lnTo>
                        <a:pt x="10" y="7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6400800" y="5083200"/>
                  <a:ext cx="73080" cy="84240"/>
                </a:xfrm>
                <a:custGeom>
                  <a:avLst/>
                  <a:gdLst/>
                  <a:ahLst/>
                  <a:rect l="l" t="t" r="r" b="b"/>
                  <a:pathLst>
                    <a:path w="46" h="53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11" y="0"/>
                      </a:lnTo>
                      <a:lnTo>
                        <a:pt x="22" y="0"/>
                      </a:lnTo>
                      <a:lnTo>
                        <a:pt x="32" y="3"/>
                      </a:lnTo>
                      <a:lnTo>
                        <a:pt x="40" y="11"/>
                      </a:lnTo>
                      <a:lnTo>
                        <a:pt x="45" y="21"/>
                      </a:lnTo>
                      <a:lnTo>
                        <a:pt x="45" y="33"/>
                      </a:lnTo>
                      <a:lnTo>
                        <a:pt x="41" y="43"/>
                      </a:lnTo>
                      <a:lnTo>
                        <a:pt x="32" y="51"/>
                      </a:lnTo>
                      <a:lnTo>
                        <a:pt x="32" y="52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499080" y="522936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0" y="4"/>
                      </a:moveTo>
                      <a:lnTo>
                        <a:pt x="0" y="4"/>
                      </a:lnTo>
                      <a:lnTo>
                        <a:pt x="10" y="0"/>
                      </a:lnTo>
                      <a:lnTo>
                        <a:pt x="20" y="0"/>
                      </a:lnTo>
                      <a:lnTo>
                        <a:pt x="30" y="4"/>
                      </a:lnTo>
                      <a:lnTo>
                        <a:pt x="38" y="12"/>
                      </a:lnTo>
                      <a:lnTo>
                        <a:pt x="43" y="22"/>
                      </a:lnTo>
                      <a:lnTo>
                        <a:pt x="43" y="33"/>
                      </a:lnTo>
                      <a:lnTo>
                        <a:pt x="40" y="43"/>
                      </a:lnTo>
                      <a:lnTo>
                        <a:pt x="33" y="50"/>
                      </a:lnTo>
                      <a:lnTo>
                        <a:pt x="33" y="51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461280" y="5234040"/>
                  <a:ext cx="48960" cy="44280"/>
                </a:xfrm>
                <a:custGeom>
                  <a:avLst/>
                  <a:gdLst/>
                  <a:ahLst/>
                  <a:rect l="l" t="t" r="r" b="b"/>
                  <a:pathLst>
                    <a:path w="31" h="28">
                      <a:moveTo>
                        <a:pt x="30" y="17"/>
                      </a:moveTo>
                      <a:lnTo>
                        <a:pt x="30" y="17"/>
                      </a:lnTo>
                      <a:lnTo>
                        <a:pt x="20" y="23"/>
                      </a:lnTo>
                      <a:lnTo>
                        <a:pt x="12" y="26"/>
                      </a:lnTo>
                      <a:lnTo>
                        <a:pt x="5" y="27"/>
                      </a:lnTo>
                      <a:lnTo>
                        <a:pt x="1" y="25"/>
                      </a:lnTo>
                      <a:lnTo>
                        <a:pt x="0" y="20"/>
                      </a:lnTo>
                      <a:lnTo>
                        <a:pt x="3" y="14"/>
                      </a:lnTo>
                      <a:lnTo>
                        <a:pt x="9" y="7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526080" y="5268960"/>
                  <a:ext cx="71640" cy="84240"/>
                </a:xfrm>
                <a:custGeom>
                  <a:avLst/>
                  <a:gdLst/>
                  <a:ahLst/>
                  <a:rect l="l" t="t" r="r" b="b"/>
                  <a:pathLst>
                    <a:path w="45" h="53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11" y="1"/>
                      </a:lnTo>
                      <a:lnTo>
                        <a:pt x="21" y="0"/>
                      </a:lnTo>
                      <a:lnTo>
                        <a:pt x="31" y="4"/>
                      </a:lnTo>
                      <a:lnTo>
                        <a:pt x="40" y="12"/>
                      </a:lnTo>
                      <a:lnTo>
                        <a:pt x="44" y="22"/>
                      </a:lnTo>
                      <a:lnTo>
                        <a:pt x="44" y="33"/>
                      </a:lnTo>
                      <a:lnTo>
                        <a:pt x="40" y="43"/>
                      </a:lnTo>
                      <a:lnTo>
                        <a:pt x="32" y="51"/>
                      </a:lnTo>
                      <a:lnTo>
                        <a:pt x="32" y="52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6489720" y="5268960"/>
                  <a:ext cx="44280" cy="42840"/>
                </a:xfrm>
                <a:custGeom>
                  <a:avLst/>
                  <a:gdLst/>
                  <a:ahLst/>
                  <a:rect l="l" t="t" r="r" b="b"/>
                  <a:pathLst>
                    <a:path w="28" h="27">
                      <a:moveTo>
                        <a:pt x="27" y="18"/>
                      </a:moveTo>
                      <a:lnTo>
                        <a:pt x="27" y="18"/>
                      </a:lnTo>
                      <a:lnTo>
                        <a:pt x="19" y="23"/>
                      </a:lnTo>
                      <a:lnTo>
                        <a:pt x="11" y="26"/>
                      </a:lnTo>
                      <a:lnTo>
                        <a:pt x="4" y="26"/>
                      </a:lnTo>
                      <a:lnTo>
                        <a:pt x="0" y="23"/>
                      </a:lnTo>
                      <a:lnTo>
                        <a:pt x="0" y="19"/>
                      </a:lnTo>
                      <a:lnTo>
                        <a:pt x="2" y="13"/>
                      </a:lnTo>
                      <a:lnTo>
                        <a:pt x="7" y="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6529320" y="5327640"/>
                  <a:ext cx="49320" cy="44640"/>
                </a:xfrm>
                <a:custGeom>
                  <a:avLst/>
                  <a:gdLst/>
                  <a:ahLst/>
                  <a:rect l="l" t="t" r="r" b="b"/>
                  <a:pathLst>
                    <a:path w="31" h="28">
                      <a:moveTo>
                        <a:pt x="30" y="17"/>
                      </a:moveTo>
                      <a:lnTo>
                        <a:pt x="30" y="17"/>
                      </a:lnTo>
                      <a:lnTo>
                        <a:pt x="20" y="23"/>
                      </a:lnTo>
                      <a:lnTo>
                        <a:pt x="12" y="26"/>
                      </a:lnTo>
                      <a:lnTo>
                        <a:pt x="5" y="27"/>
                      </a:lnTo>
                      <a:lnTo>
                        <a:pt x="1" y="25"/>
                      </a:lnTo>
                      <a:lnTo>
                        <a:pt x="0" y="20"/>
                      </a:lnTo>
                      <a:lnTo>
                        <a:pt x="3" y="14"/>
                      </a:lnTo>
                      <a:lnTo>
                        <a:pt x="9" y="7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6202440" y="5006880"/>
                <a:ext cx="196920" cy="287280"/>
                <a:chOff x="6202440" y="5006880"/>
                <a:chExt cx="196920" cy="28728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261120" y="5119560"/>
                  <a:ext cx="71280" cy="81000"/>
                </a:xfrm>
                <a:custGeom>
                  <a:avLst/>
                  <a:gdLst/>
                  <a:ahLst/>
                  <a:rect l="l" t="t" r="r" b="b"/>
                  <a:pathLst>
                    <a:path w="45" h="51">
                      <a:moveTo>
                        <a:pt x="44" y="45"/>
                      </a:moveTo>
                      <a:lnTo>
                        <a:pt x="44" y="45"/>
                      </a:lnTo>
                      <a:lnTo>
                        <a:pt x="33" y="50"/>
                      </a:lnTo>
                      <a:lnTo>
                        <a:pt x="22" y="50"/>
                      </a:lnTo>
                      <a:lnTo>
                        <a:pt x="12" y="47"/>
                      </a:lnTo>
                      <a:lnTo>
                        <a:pt x="4" y="39"/>
                      </a:lnTo>
                      <a:lnTo>
                        <a:pt x="0" y="29"/>
                      </a:lnTo>
                      <a:lnTo>
                        <a:pt x="0" y="18"/>
                      </a:lnTo>
                      <a:lnTo>
                        <a:pt x="5" y="8"/>
                      </a:lnTo>
                      <a:lnTo>
                        <a:pt x="13" y="0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10440" y="5143680"/>
                  <a:ext cx="47520" cy="42840"/>
                </a:xfrm>
                <a:custGeom>
                  <a:avLst/>
                  <a:gdLst/>
                  <a:ahLst/>
                  <a:rect l="l" t="t" r="r" b="b"/>
                  <a:pathLst>
                    <a:path w="30" h="27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9" y="3"/>
                      </a:lnTo>
                      <a:lnTo>
                        <a:pt x="18" y="0"/>
                      </a:lnTo>
                      <a:lnTo>
                        <a:pt x="25" y="0"/>
                      </a:lnTo>
                      <a:lnTo>
                        <a:pt x="29" y="2"/>
                      </a:lnTo>
                      <a:lnTo>
                        <a:pt x="29" y="6"/>
                      </a:lnTo>
                      <a:lnTo>
                        <a:pt x="26" y="13"/>
                      </a:lnTo>
                      <a:lnTo>
                        <a:pt x="20" y="20"/>
                      </a:lnTo>
                      <a:lnTo>
                        <a:pt x="12" y="26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292800" y="5168880"/>
                  <a:ext cx="73080" cy="84240"/>
                </a:xfrm>
                <a:custGeom>
                  <a:avLst/>
                  <a:gdLst/>
                  <a:ahLst/>
                  <a:rect l="l" t="t" r="r" b="b"/>
                  <a:pathLst>
                    <a:path w="46" h="53">
                      <a:moveTo>
                        <a:pt x="45" y="47"/>
                      </a:moveTo>
                      <a:lnTo>
                        <a:pt x="45" y="47"/>
                      </a:lnTo>
                      <a:lnTo>
                        <a:pt x="34" y="52"/>
                      </a:lnTo>
                      <a:lnTo>
                        <a:pt x="23" y="52"/>
                      </a:lnTo>
                      <a:lnTo>
                        <a:pt x="12" y="48"/>
                      </a:lnTo>
                      <a:lnTo>
                        <a:pt x="4" y="40"/>
                      </a:lnTo>
                      <a:lnTo>
                        <a:pt x="0" y="30"/>
                      </a:lnTo>
                      <a:lnTo>
                        <a:pt x="0" y="19"/>
                      </a:lnTo>
                      <a:lnTo>
                        <a:pt x="4" y="8"/>
                      </a:lnTo>
                      <a:lnTo>
                        <a:pt x="12" y="0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343560" y="5194440"/>
                  <a:ext cx="46080" cy="42840"/>
                </a:xfrm>
                <a:custGeom>
                  <a:avLst/>
                  <a:gdLst/>
                  <a:ahLst/>
                  <a:rect l="l" t="t" r="r" b="b"/>
                  <a:pathLst>
                    <a:path w="29" h="27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9" y="3"/>
                      </a:lnTo>
                      <a:lnTo>
                        <a:pt x="17" y="1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28" y="7"/>
                      </a:lnTo>
                      <a:lnTo>
                        <a:pt x="26" y="13"/>
                      </a:lnTo>
                      <a:lnTo>
                        <a:pt x="20" y="19"/>
                      </a:lnTo>
                      <a:lnTo>
                        <a:pt x="11" y="26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326280" y="5210280"/>
                  <a:ext cx="73080" cy="83880"/>
                </a:xfrm>
                <a:custGeom>
                  <a:avLst/>
                  <a:gdLst/>
                  <a:ahLst/>
                  <a:rect l="l" t="t" r="r" b="b"/>
                  <a:pathLst>
                    <a:path w="46" h="53">
                      <a:moveTo>
                        <a:pt x="45" y="47"/>
                      </a:moveTo>
                      <a:lnTo>
                        <a:pt x="45" y="47"/>
                      </a:lnTo>
                      <a:lnTo>
                        <a:pt x="34" y="52"/>
                      </a:lnTo>
                      <a:lnTo>
                        <a:pt x="23" y="52"/>
                      </a:lnTo>
                      <a:lnTo>
                        <a:pt x="12" y="48"/>
                      </a:lnTo>
                      <a:lnTo>
                        <a:pt x="4" y="40"/>
                      </a:lnTo>
                      <a:lnTo>
                        <a:pt x="0" y="30"/>
                      </a:lnTo>
                      <a:lnTo>
                        <a:pt x="0" y="19"/>
                      </a:lnTo>
                      <a:lnTo>
                        <a:pt x="4" y="8"/>
                      </a:lnTo>
                      <a:lnTo>
                        <a:pt x="12" y="0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219720" y="5070600"/>
                  <a:ext cx="74880" cy="85680"/>
                </a:xfrm>
                <a:custGeom>
                  <a:avLst/>
                  <a:gdLst/>
                  <a:ahLst/>
                  <a:rect l="l" t="t" r="r" b="b"/>
                  <a:pathLst>
                    <a:path w="47" h="54">
                      <a:moveTo>
                        <a:pt x="46" y="48"/>
                      </a:moveTo>
                      <a:lnTo>
                        <a:pt x="46" y="48"/>
                      </a:lnTo>
                      <a:lnTo>
                        <a:pt x="35" y="53"/>
                      </a:lnTo>
                      <a:lnTo>
                        <a:pt x="24" y="53"/>
                      </a:lnTo>
                      <a:lnTo>
                        <a:pt x="13" y="49"/>
                      </a:lnTo>
                      <a:lnTo>
                        <a:pt x="5" y="41"/>
                      </a:lnTo>
                      <a:lnTo>
                        <a:pt x="0" y="30"/>
                      </a:lnTo>
                      <a:lnTo>
                        <a:pt x="0" y="19"/>
                      </a:lnTo>
                      <a:lnTo>
                        <a:pt x="5" y="9"/>
                      </a:lnTo>
                      <a:lnTo>
                        <a:pt x="13" y="0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278400" y="5103720"/>
                  <a:ext cx="49320" cy="44640"/>
                </a:xfrm>
                <a:custGeom>
                  <a:avLst/>
                  <a:gdLst/>
                  <a:ahLst/>
                  <a:rect l="l" t="t" r="r" b="b"/>
                  <a:pathLst>
                    <a:path w="31" h="28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10" y="4"/>
                      </a:lnTo>
                      <a:lnTo>
                        <a:pt x="18" y="1"/>
                      </a:lnTo>
                      <a:lnTo>
                        <a:pt x="25" y="0"/>
                      </a:lnTo>
                      <a:lnTo>
                        <a:pt x="29" y="3"/>
                      </a:lnTo>
                      <a:lnTo>
                        <a:pt x="30" y="7"/>
                      </a:lnTo>
                      <a:lnTo>
                        <a:pt x="27" y="14"/>
                      </a:lnTo>
                      <a:lnTo>
                        <a:pt x="21" y="20"/>
                      </a:lnTo>
                      <a:lnTo>
                        <a:pt x="13" y="27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202440" y="5025960"/>
                  <a:ext cx="69840" cy="82440"/>
                </a:xfrm>
                <a:custGeom>
                  <a:avLst/>
                  <a:gdLst/>
                  <a:ahLst/>
                  <a:rect l="l" t="t" r="r" b="b"/>
                  <a:pathLst>
                    <a:path w="44" h="52">
                      <a:moveTo>
                        <a:pt x="43" y="46"/>
                      </a:moveTo>
                      <a:lnTo>
                        <a:pt x="43" y="46"/>
                      </a:lnTo>
                      <a:lnTo>
                        <a:pt x="33" y="51"/>
                      </a:lnTo>
                      <a:lnTo>
                        <a:pt x="22" y="51"/>
                      </a:lnTo>
                      <a:lnTo>
                        <a:pt x="12" y="47"/>
                      </a:lnTo>
                      <a:lnTo>
                        <a:pt x="4" y="40"/>
                      </a:lnTo>
                      <a:lnTo>
                        <a:pt x="0" y="29"/>
                      </a:lnTo>
                      <a:lnTo>
                        <a:pt x="0" y="19"/>
                      </a:lnTo>
                      <a:lnTo>
                        <a:pt x="4" y="8"/>
                      </a:lnTo>
                      <a:lnTo>
                        <a:pt x="12" y="0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248520" y="5059440"/>
                  <a:ext cx="42840" cy="41040"/>
                </a:xfrm>
                <a:custGeom>
                  <a:avLst/>
                  <a:gdLst/>
                  <a:ahLst/>
                  <a:rect l="l" t="t" r="r" b="b"/>
                  <a:pathLst>
                    <a:path w="27" h="26">
                      <a:moveTo>
                        <a:pt x="0" y="7"/>
                      </a:moveTo>
                      <a:lnTo>
                        <a:pt x="0" y="7"/>
                      </a:lnTo>
                      <a:lnTo>
                        <a:pt x="8" y="2"/>
                      </a:lnTo>
                      <a:lnTo>
                        <a:pt x="15" y="0"/>
                      </a:lnTo>
                      <a:lnTo>
                        <a:pt x="21" y="0"/>
                      </a:lnTo>
                      <a:lnTo>
                        <a:pt x="25" y="3"/>
                      </a:lnTo>
                      <a:lnTo>
                        <a:pt x="26" y="7"/>
                      </a:lnTo>
                      <a:lnTo>
                        <a:pt x="24" y="13"/>
                      </a:lnTo>
                      <a:lnTo>
                        <a:pt x="19" y="19"/>
                      </a:lnTo>
                      <a:lnTo>
                        <a:pt x="12" y="25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221520" y="5006880"/>
                  <a:ext cx="46080" cy="42840"/>
                </a:xfrm>
                <a:custGeom>
                  <a:avLst/>
                  <a:gdLst/>
                  <a:ahLst/>
                  <a:rect l="l" t="t" r="r" b="b"/>
                  <a:pathLst>
                    <a:path w="29" h="27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9" y="3"/>
                      </a:lnTo>
                      <a:lnTo>
                        <a:pt x="17" y="1"/>
                      </a:lnTo>
                      <a:lnTo>
                        <a:pt x="24" y="0"/>
                      </a:lnTo>
                      <a:lnTo>
                        <a:pt x="28" y="2"/>
                      </a:lnTo>
                      <a:lnTo>
                        <a:pt x="28" y="7"/>
                      </a:lnTo>
                      <a:lnTo>
                        <a:pt x="26" y="13"/>
                      </a:lnTo>
                      <a:lnTo>
                        <a:pt x="20" y="19"/>
                      </a:lnTo>
                      <a:lnTo>
                        <a:pt x="11" y="26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6311880" y="4965840"/>
                <a:ext cx="317520" cy="123840"/>
                <a:chOff x="6311880" y="4965840"/>
                <a:chExt cx="317520" cy="123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426360" y="4971960"/>
                  <a:ext cx="91800" cy="54000"/>
                </a:xfrm>
                <a:custGeom>
                  <a:avLst/>
                  <a:gdLst/>
                  <a:ahLst/>
                  <a:rect l="l" t="t" r="r" b="b"/>
                  <a:pathLst>
                    <a:path w="58" h="34">
                      <a:moveTo>
                        <a:pt x="0" y="25"/>
                      </a:moveTo>
                      <a:lnTo>
                        <a:pt x="0" y="25"/>
                      </a:lnTo>
                      <a:lnTo>
                        <a:pt x="3" y="15"/>
                      </a:lnTo>
                      <a:lnTo>
                        <a:pt x="10" y="6"/>
                      </a:lnTo>
                      <a:lnTo>
                        <a:pt x="20" y="1"/>
                      </a:lnTo>
                      <a:lnTo>
                        <a:pt x="32" y="0"/>
                      </a:lnTo>
                      <a:lnTo>
                        <a:pt x="43" y="4"/>
                      </a:lnTo>
                      <a:lnTo>
                        <a:pt x="51" y="11"/>
                      </a:lnTo>
                      <a:lnTo>
                        <a:pt x="56" y="21"/>
                      </a:lnTo>
                      <a:lnTo>
                        <a:pt x="57" y="32"/>
                      </a:lnTo>
                      <a:lnTo>
                        <a:pt x="57" y="33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6429240" y="5021280"/>
                  <a:ext cx="34920" cy="47520"/>
                </a:xfrm>
                <a:custGeom>
                  <a:avLst/>
                  <a:gdLst/>
                  <a:ahLst/>
                  <a:rect l="l" t="t" r="r" b="b"/>
                  <a:pathLst>
                    <a:path w="22" h="30">
                      <a:moveTo>
                        <a:pt x="21" y="3"/>
                      </a:moveTo>
                      <a:lnTo>
                        <a:pt x="21" y="3"/>
                      </a:lnTo>
                      <a:lnTo>
                        <a:pt x="19" y="13"/>
                      </a:lnTo>
                      <a:lnTo>
                        <a:pt x="15" y="22"/>
                      </a:lnTo>
                      <a:lnTo>
                        <a:pt x="11" y="27"/>
                      </a:lnTo>
                      <a:lnTo>
                        <a:pt x="7" y="29"/>
                      </a:lnTo>
                      <a:lnTo>
                        <a:pt x="3" y="26"/>
                      </a:lnTo>
                      <a:lnTo>
                        <a:pt x="1" y="20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64440" y="4965840"/>
                  <a:ext cx="90360" cy="55440"/>
                </a:xfrm>
                <a:custGeom>
                  <a:avLst/>
                  <a:gdLst/>
                  <a:ahLst/>
                  <a:rect l="l" t="t" r="r" b="b"/>
                  <a:pathLst>
                    <a:path w="57" h="35">
                      <a:moveTo>
                        <a:pt x="0" y="27"/>
                      </a:moveTo>
                      <a:lnTo>
                        <a:pt x="0" y="27"/>
                      </a:lnTo>
                      <a:lnTo>
                        <a:pt x="3" y="15"/>
                      </a:lnTo>
                      <a:lnTo>
                        <a:pt x="10" y="7"/>
                      </a:lnTo>
                      <a:lnTo>
                        <a:pt x="20" y="1"/>
                      </a:lnTo>
                      <a:lnTo>
                        <a:pt x="31" y="0"/>
                      </a:lnTo>
                      <a:lnTo>
                        <a:pt x="42" y="4"/>
                      </a:lnTo>
                      <a:lnTo>
                        <a:pt x="50" y="11"/>
                      </a:lnTo>
                      <a:lnTo>
                        <a:pt x="55" y="21"/>
                      </a:lnTo>
                      <a:lnTo>
                        <a:pt x="56" y="33"/>
                      </a:lnTo>
                      <a:lnTo>
                        <a:pt x="56" y="34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67320" y="5011560"/>
                  <a:ext cx="38160" cy="39960"/>
                </a:xfrm>
                <a:custGeom>
                  <a:avLst/>
                  <a:gdLst/>
                  <a:ahLst/>
                  <a:rect l="l" t="t" r="r" b="b"/>
                  <a:pathLst>
                    <a:path w="24" h="25">
                      <a:moveTo>
                        <a:pt x="23" y="3"/>
                      </a:moveTo>
                      <a:lnTo>
                        <a:pt x="23" y="3"/>
                      </a:lnTo>
                      <a:lnTo>
                        <a:pt x="21" y="12"/>
                      </a:lnTo>
                      <a:lnTo>
                        <a:pt x="17" y="18"/>
                      </a:lnTo>
                      <a:lnTo>
                        <a:pt x="13" y="23"/>
                      </a:lnTo>
                      <a:lnTo>
                        <a:pt x="8" y="24"/>
                      </a:lnTo>
                      <a:lnTo>
                        <a:pt x="4" y="22"/>
                      </a:lnTo>
                      <a:lnTo>
                        <a:pt x="1" y="17"/>
                      </a:lnTo>
                      <a:lnTo>
                        <a:pt x="0" y="9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311880" y="4970520"/>
                  <a:ext cx="90360" cy="475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0" y="22"/>
                      </a:moveTo>
                      <a:lnTo>
                        <a:pt x="0" y="22"/>
                      </a:lnTo>
                      <a:lnTo>
                        <a:pt x="3" y="12"/>
                      </a:lnTo>
                      <a:lnTo>
                        <a:pt x="10" y="5"/>
                      </a:lnTo>
                      <a:lnTo>
                        <a:pt x="19" y="1"/>
                      </a:lnTo>
                      <a:lnTo>
                        <a:pt x="30" y="0"/>
                      </a:lnTo>
                      <a:lnTo>
                        <a:pt x="41" y="4"/>
                      </a:lnTo>
                      <a:lnTo>
                        <a:pt x="49" y="10"/>
                      </a:lnTo>
                      <a:lnTo>
                        <a:pt x="54" y="18"/>
                      </a:lnTo>
                      <a:lnTo>
                        <a:pt x="56" y="28"/>
                      </a:lnTo>
                      <a:lnTo>
                        <a:pt x="55" y="29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489720" y="4983120"/>
                  <a:ext cx="92160" cy="52560"/>
                </a:xfrm>
                <a:custGeom>
                  <a:avLst/>
                  <a:gdLst/>
                  <a:ahLst/>
                  <a:rect l="l" t="t" r="r" b="b"/>
                  <a:pathLst>
                    <a:path w="58" h="33">
                      <a:moveTo>
                        <a:pt x="0" y="24"/>
                      </a:moveTo>
                      <a:lnTo>
                        <a:pt x="0" y="24"/>
                      </a:lnTo>
                      <a:lnTo>
                        <a:pt x="3" y="14"/>
                      </a:lnTo>
                      <a:lnTo>
                        <a:pt x="10" y="6"/>
                      </a:lnTo>
                      <a:lnTo>
                        <a:pt x="20" y="1"/>
                      </a:lnTo>
                      <a:lnTo>
                        <a:pt x="32" y="0"/>
                      </a:lnTo>
                      <a:lnTo>
                        <a:pt x="43" y="4"/>
                      </a:lnTo>
                      <a:lnTo>
                        <a:pt x="51" y="11"/>
                      </a:lnTo>
                      <a:lnTo>
                        <a:pt x="56" y="20"/>
                      </a:lnTo>
                      <a:lnTo>
                        <a:pt x="57" y="31"/>
                      </a:lnTo>
                      <a:lnTo>
                        <a:pt x="57" y="32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480000" y="5027760"/>
                  <a:ext cx="38160" cy="44280"/>
                </a:xfrm>
                <a:custGeom>
                  <a:avLst/>
                  <a:gdLst/>
                  <a:ahLst/>
                  <a:rect l="l" t="t" r="r" b="b"/>
                  <a:pathLst>
                    <a:path w="24" h="28">
                      <a:moveTo>
                        <a:pt x="23" y="3"/>
                      </a:moveTo>
                      <a:lnTo>
                        <a:pt x="23" y="3"/>
                      </a:lnTo>
                      <a:lnTo>
                        <a:pt x="21" y="13"/>
                      </a:lnTo>
                      <a:lnTo>
                        <a:pt x="17" y="21"/>
                      </a:lnTo>
                      <a:lnTo>
                        <a:pt x="13" y="26"/>
                      </a:lnTo>
                      <a:lnTo>
                        <a:pt x="8" y="27"/>
                      </a:lnTo>
                      <a:lnTo>
                        <a:pt x="4" y="25"/>
                      </a:lnTo>
                      <a:lnTo>
                        <a:pt x="1" y="19"/>
                      </a:lnTo>
                      <a:lnTo>
                        <a:pt x="0" y="1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534000" y="4994280"/>
                  <a:ext cx="88920" cy="55440"/>
                </a:xfrm>
                <a:custGeom>
                  <a:avLst/>
                  <a:gdLst/>
                  <a:ahLst/>
                  <a:rect l="l" t="t" r="r" b="b"/>
                  <a:pathLst>
                    <a:path w="56" h="35">
                      <a:moveTo>
                        <a:pt x="0" y="27"/>
                      </a:moveTo>
                      <a:lnTo>
                        <a:pt x="0" y="27"/>
                      </a:lnTo>
                      <a:lnTo>
                        <a:pt x="3" y="15"/>
                      </a:lnTo>
                      <a:lnTo>
                        <a:pt x="10" y="7"/>
                      </a:lnTo>
                      <a:lnTo>
                        <a:pt x="20" y="1"/>
                      </a:lnTo>
                      <a:lnTo>
                        <a:pt x="31" y="0"/>
                      </a:lnTo>
                      <a:lnTo>
                        <a:pt x="41" y="4"/>
                      </a:lnTo>
                      <a:lnTo>
                        <a:pt x="49" y="11"/>
                      </a:lnTo>
                      <a:lnTo>
                        <a:pt x="54" y="21"/>
                      </a:lnTo>
                      <a:lnTo>
                        <a:pt x="55" y="33"/>
                      </a:lnTo>
                      <a:lnTo>
                        <a:pt x="55" y="34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537240" y="5033880"/>
                  <a:ext cx="36720" cy="46080"/>
                </a:xfrm>
                <a:custGeom>
                  <a:avLst/>
                  <a:gdLst/>
                  <a:ahLst/>
                  <a:rect l="l" t="t" r="r" b="b"/>
                  <a:pathLst>
                    <a:path w="23" h="29">
                      <a:moveTo>
                        <a:pt x="22" y="3"/>
                      </a:moveTo>
                      <a:lnTo>
                        <a:pt x="22" y="3"/>
                      </a:lnTo>
                      <a:lnTo>
                        <a:pt x="20" y="13"/>
                      </a:lnTo>
                      <a:lnTo>
                        <a:pt x="16" y="21"/>
                      </a:lnTo>
                      <a:lnTo>
                        <a:pt x="12" y="27"/>
                      </a:lnTo>
                      <a:lnTo>
                        <a:pt x="8" y="28"/>
                      </a:lnTo>
                      <a:lnTo>
                        <a:pt x="4" y="26"/>
                      </a:lnTo>
                      <a:lnTo>
                        <a:pt x="1" y="19"/>
                      </a:lnTo>
                      <a:lnTo>
                        <a:pt x="0" y="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593040" y="5043600"/>
                  <a:ext cx="36360" cy="46080"/>
                </a:xfrm>
                <a:custGeom>
                  <a:avLst/>
                  <a:gdLst/>
                  <a:ahLst/>
                  <a:rect l="l" t="t" r="r" b="b"/>
                  <a:pathLst>
                    <a:path w="23" h="29">
                      <a:moveTo>
                        <a:pt x="22" y="3"/>
                      </a:moveTo>
                      <a:lnTo>
                        <a:pt x="22" y="3"/>
                      </a:lnTo>
                      <a:lnTo>
                        <a:pt x="20" y="13"/>
                      </a:lnTo>
                      <a:lnTo>
                        <a:pt x="16" y="21"/>
                      </a:lnTo>
                      <a:lnTo>
                        <a:pt x="12" y="27"/>
                      </a:lnTo>
                      <a:lnTo>
                        <a:pt x="8" y="28"/>
                      </a:lnTo>
                      <a:lnTo>
                        <a:pt x="4" y="26"/>
                      </a:lnTo>
                      <a:lnTo>
                        <a:pt x="2" y="19"/>
                      </a:lnTo>
                      <a:lnTo>
                        <a:pt x="0" y="11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flipH="1" flipV="1">
                <a:off x="6559560" y="5022720"/>
                <a:ext cx="447840" cy="84240"/>
              </a:xfrm>
              <a:prstGeom prst="line">
                <a:avLst/>
              </a:prstGeom>
              <a:ln w="25560">
                <a:solidFill>
                  <a:srgbClr val="29008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 flipV="1">
                <a:off x="6565680" y="5338800"/>
                <a:ext cx="137880" cy="200160"/>
              </a:xfrm>
              <a:prstGeom prst="line">
                <a:avLst/>
              </a:prstGeom>
              <a:ln w="25560">
                <a:solidFill>
                  <a:srgbClr val="29008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 flipH="1" flipV="1">
              <a:off x="6389640" y="5284800"/>
              <a:ext cx="168480" cy="225360"/>
            </a:xfrm>
            <a:prstGeom prst="line">
              <a:avLst/>
            </a:prstGeom>
            <a:ln w="25560">
              <a:solidFill>
                <a:srgbClr val="29008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257800" y="4572000"/>
            <a:ext cx="22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579920" y="1933560"/>
            <a:ext cx="1515600" cy="1190160"/>
            <a:chOff x="4579920" y="1933560"/>
            <a:chExt cx="1515600" cy="1190160"/>
          </a:xfrm>
        </p:grpSpPr>
        <p:sp>
          <p:nvSpPr>
            <p:cNvPr id="148" name=""/>
            <p:cNvSpPr/>
            <p:nvPr/>
          </p:nvSpPr>
          <p:spPr>
            <a:xfrm flipV="1">
              <a:off x="4579920" y="2593440"/>
              <a:ext cx="671400" cy="530280"/>
            </a:xfrm>
            <a:prstGeom prst="line">
              <a:avLst/>
            </a:prstGeom>
            <a:ln w="25560">
              <a:solidFill>
                <a:srgbClr val="290082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5298840" y="1933560"/>
              <a:ext cx="796680" cy="619200"/>
            </a:xfrm>
            <a:prstGeom prst="line">
              <a:avLst/>
            </a:prstGeom>
            <a:ln w="25560">
              <a:solidFill>
                <a:srgbClr val="d90b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4778280" y="2075040"/>
              <a:ext cx="1015920" cy="1015920"/>
              <a:chOff x="4778280" y="2075040"/>
              <a:chExt cx="1015920" cy="1015920"/>
            </a:xfrm>
          </p:grpSpPr>
          <p:sp>
            <p:nvSpPr>
              <p:cNvPr id="151" name=""/>
              <p:cNvSpPr/>
              <p:nvPr/>
            </p:nvSpPr>
            <p:spPr>
              <a:xfrm>
                <a:off x="4778280" y="2075040"/>
                <a:ext cx="1015920" cy="1015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235480" y="2532240"/>
                <a:ext cx="101520" cy="101520"/>
              </a:xfrm>
              <a:prstGeom prst="ellipse">
                <a:avLst/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5051520" y="2390760"/>
              <a:ext cx="525240" cy="476280"/>
            </a:xfrm>
            <a:custGeom>
              <a:avLst/>
              <a:gdLst/>
              <a:ahLst/>
              <a:rect l="l" t="t" r="r" b="b"/>
              <a:pathLst>
                <a:path w="331" h="300">
                  <a:moveTo>
                    <a:pt x="293" y="0"/>
                  </a:moveTo>
                  <a:lnTo>
                    <a:pt x="310" y="23"/>
                  </a:lnTo>
                  <a:lnTo>
                    <a:pt x="321" y="50"/>
                  </a:lnTo>
                  <a:lnTo>
                    <a:pt x="328" y="79"/>
                  </a:lnTo>
                  <a:lnTo>
                    <a:pt x="330" y="110"/>
                  </a:lnTo>
                  <a:lnTo>
                    <a:pt x="328" y="142"/>
                  </a:lnTo>
                  <a:lnTo>
                    <a:pt x="321" y="173"/>
                  </a:lnTo>
                  <a:lnTo>
                    <a:pt x="310" y="203"/>
                  </a:lnTo>
                  <a:lnTo>
                    <a:pt x="294" y="230"/>
                  </a:lnTo>
                  <a:lnTo>
                    <a:pt x="273" y="255"/>
                  </a:lnTo>
                  <a:lnTo>
                    <a:pt x="248" y="275"/>
                  </a:lnTo>
                  <a:lnTo>
                    <a:pt x="233" y="283"/>
                  </a:lnTo>
                  <a:lnTo>
                    <a:pt x="218" y="289"/>
                  </a:lnTo>
                  <a:lnTo>
                    <a:pt x="201" y="295"/>
                  </a:lnTo>
                  <a:lnTo>
                    <a:pt x="183" y="298"/>
                  </a:lnTo>
                  <a:lnTo>
                    <a:pt x="164" y="299"/>
                  </a:lnTo>
                  <a:lnTo>
                    <a:pt x="144" y="299"/>
                  </a:lnTo>
                  <a:lnTo>
                    <a:pt x="123" y="297"/>
                  </a:lnTo>
                  <a:lnTo>
                    <a:pt x="101" y="292"/>
                  </a:lnTo>
                  <a:lnTo>
                    <a:pt x="77" y="285"/>
                  </a:lnTo>
                  <a:lnTo>
                    <a:pt x="53" y="276"/>
                  </a:lnTo>
                  <a:lnTo>
                    <a:pt x="27" y="264"/>
                  </a:lnTo>
                  <a:lnTo>
                    <a:pt x="0" y="24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10280" y="2506680"/>
              <a:ext cx="311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marL="39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4813200" y="2606400"/>
              <a:ext cx="433440" cy="336600"/>
              <a:chOff x="4813200" y="2606400"/>
              <a:chExt cx="433440" cy="336600"/>
            </a:xfrm>
          </p:grpSpPr>
          <p:sp>
            <p:nvSpPr>
              <p:cNvPr id="156" name=""/>
              <p:cNvSpPr/>
              <p:nvPr/>
            </p:nvSpPr>
            <p:spPr>
              <a:xfrm flipV="1">
                <a:off x="4815000" y="2619360"/>
                <a:ext cx="425160" cy="308160"/>
              </a:xfrm>
              <a:prstGeom prst="line">
                <a:avLst/>
              </a:prstGeom>
              <a:ln w="25560">
                <a:solidFill>
                  <a:srgbClr val="29008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4813200" y="2614320"/>
                <a:ext cx="424080" cy="104760"/>
              </a:xfrm>
              <a:prstGeom prst="line">
                <a:avLst/>
              </a:prstGeom>
              <a:ln w="25560">
                <a:solidFill>
                  <a:srgbClr val="29008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5030640" y="2606400"/>
                <a:ext cx="216000" cy="336600"/>
              </a:xfrm>
              <a:prstGeom prst="line">
                <a:avLst/>
              </a:prstGeom>
              <a:ln w="25560">
                <a:solidFill>
                  <a:srgbClr val="290082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581040" y="3048120"/>
            <a:ext cx="3622680" cy="325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P-Liang Zhe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B2E2-6C17-4468-A9C8-2BA7D223516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Comic Sans MS"/>
              </a:rPr>
              <a:t>Dihadron correlations at eRH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1600" y="1523880"/>
            <a:ext cx="5132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Comic Sans MS"/>
              </a:rPr>
              <a:t>EIC:</a:t>
            </a:r>
            <a:r>
              <a:rPr b="0" lang="zh-CN" sz="1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54160" indent="-1396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Extract the spatial multi-gluon correlations and study their non-linear 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54160" indent="-1396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Control initial/final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Comic Sans MS"/>
              </a:rPr>
              <a:t>Advantage over p(d)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54160" indent="-1396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eA experimentally much clea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0440" indent="-921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no “spectator” background to subtr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460440" indent="-9216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Access to the exact kinematics of the DIS process (x, Q</a:t>
            </a:r>
            <a:r>
              <a:rPr b="0" lang="zh-CN" sz="1800" spc="-1" strike="noStrike" baseline="32000">
                <a:solidFill>
                  <a:srgbClr val="000000"/>
                </a:solidFill>
                <a:latin typeface="Comic Sans MS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3622680" cy="1679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410080" y="3962520"/>
            <a:ext cx="3517920" cy="153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P-Liang Zhe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BE71-44DE-402D-99D0-0269B87B1C3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2012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theoretical prediction from Saturation/CGC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432320" cy="3746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677960" y="3659040"/>
            <a:ext cx="758880" cy="758880"/>
          </a:xfrm>
          <a:prstGeom prst="parallelogram">
            <a:avLst>
              <a:gd name="adj" fmla="val 72282"/>
            </a:avLst>
          </a:prstGeom>
          <a:solidFill>
            <a:srgbClr val="bbe0e3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600200" y="1266840"/>
            <a:ext cx="6108840" cy="727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876920" y="5410080"/>
            <a:ext cx="3581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Bin:0.5&lt;Q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&lt;1.5GeV</a:t>
            </a:r>
            <a:r>
              <a:rPr b="1" lang="en-US" sz="1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, 0.6&lt;y&lt;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x&gt;=1.01x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y&gt;=0.69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gt;=0.84GeV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4648320"/>
            <a:ext cx="1371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 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371600" y="434304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238880" y="37339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572000" y="2209680"/>
            <a:ext cx="3822840" cy="32385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181480" y="1905120"/>
            <a:ext cx="327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Xiao, Dominguez, Yuan 2011/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781680" y="2471760"/>
            <a:ext cx="1524240" cy="13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=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h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z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h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2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GeV &lt; 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&lt; 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P-Liang Zhe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8D14-B91D-41E2-9BC1-1E6A57369B2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Comic Sans MS"/>
              </a:rPr>
              <a:t>Our Monte Carlo approach for dihadron correlations in eA/e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1447920"/>
            <a:ext cx="2438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omic Sans MS"/>
              </a:rPr>
              <a:t>A hybrid model consisting of DPMJet and PYTHIA with nPDF EPS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2133720"/>
            <a:ext cx="36576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Nuclear geome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Nuclear 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" y="2741760"/>
            <a:ext cx="2286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a50021"/>
                </a:solidFill>
                <a:latin typeface="Comic Sans MS"/>
              </a:rPr>
              <a:t>Parton level interaction, parton shower and jet frag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2280" y="3960720"/>
            <a:ext cx="2210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Comic Sans MS"/>
              </a:rPr>
              <a:t>Nuclear evapo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3427560"/>
            <a:ext cx="2133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00"/>
                </a:solidFill>
                <a:latin typeface="Comic Sans MS"/>
              </a:rPr>
              <a:t>Energy loss effect for cold nuclear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828800" y="3809880"/>
            <a:ext cx="3517920" cy="2603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505320" y="2133720"/>
            <a:ext cx="213336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DPM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EPS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YTH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Energy loss module by Salgado&amp;Wiede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22860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05120" y="25909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133720" y="2895480"/>
            <a:ext cx="144756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133720" y="3428640"/>
            <a:ext cx="1371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981080" y="2362320"/>
            <a:ext cx="1447920" cy="175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2209680"/>
            <a:ext cx="2514600" cy="25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igher order effects (parton show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Noncollinear effects (intrinsic k</a:t>
            </a:r>
            <a:r>
              <a:rPr b="0" lang="zh-CN" sz="14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Fragmentation process (Jets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Comic Sans MS"/>
              </a:rPr>
              <a:t>Multiple scatt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8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Comic Sans MS"/>
              </a:rPr>
              <a:t>Sat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495320" y="2514600"/>
            <a:ext cx="167652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4495320" y="2971440"/>
            <a:ext cx="167652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38680" y="5348160"/>
            <a:ext cx="29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0"/>
                </a:solidFill>
                <a:latin typeface="Comic Sans MS"/>
              </a:rPr>
              <a:t>A non Saturation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4571640" y="3047760"/>
            <a:ext cx="167652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5880" y="2209680"/>
            <a:ext cx="2211480" cy="1602000"/>
          </a:xfrm>
          <a:custGeom>
            <a:avLst/>
            <a:gdLst/>
            <a:ahLst/>
            <a:rect l="l" t="t" r="r" b="b"/>
            <a:pathLst>
              <a:path w="1393" h="1009">
                <a:moveTo>
                  <a:pt x="126" y="0"/>
                </a:moveTo>
                <a:lnTo>
                  <a:pt x="100" y="3"/>
                </a:lnTo>
                <a:lnTo>
                  <a:pt x="77" y="10"/>
                </a:lnTo>
                <a:lnTo>
                  <a:pt x="56" y="22"/>
                </a:lnTo>
                <a:lnTo>
                  <a:pt x="37" y="37"/>
                </a:lnTo>
                <a:lnTo>
                  <a:pt x="22" y="56"/>
                </a:lnTo>
                <a:lnTo>
                  <a:pt x="10" y="77"/>
                </a:lnTo>
                <a:lnTo>
                  <a:pt x="3" y="101"/>
                </a:lnTo>
                <a:lnTo>
                  <a:pt x="0" y="126"/>
                </a:lnTo>
                <a:lnTo>
                  <a:pt x="0" y="883"/>
                </a:lnTo>
                <a:lnTo>
                  <a:pt x="3" y="908"/>
                </a:lnTo>
                <a:lnTo>
                  <a:pt x="10" y="932"/>
                </a:lnTo>
                <a:lnTo>
                  <a:pt x="22" y="953"/>
                </a:lnTo>
                <a:lnTo>
                  <a:pt x="37" y="972"/>
                </a:lnTo>
                <a:lnTo>
                  <a:pt x="56" y="987"/>
                </a:lnTo>
                <a:lnTo>
                  <a:pt x="77" y="998"/>
                </a:lnTo>
                <a:lnTo>
                  <a:pt x="100" y="1006"/>
                </a:lnTo>
                <a:lnTo>
                  <a:pt x="126" y="1008"/>
                </a:lnTo>
                <a:lnTo>
                  <a:pt x="1266" y="1008"/>
                </a:lnTo>
                <a:lnTo>
                  <a:pt x="1292" y="1006"/>
                </a:lnTo>
                <a:lnTo>
                  <a:pt x="1315" y="998"/>
                </a:lnTo>
                <a:lnTo>
                  <a:pt x="1337" y="987"/>
                </a:lnTo>
                <a:lnTo>
                  <a:pt x="1356" y="972"/>
                </a:lnTo>
                <a:lnTo>
                  <a:pt x="1371" y="953"/>
                </a:lnTo>
                <a:lnTo>
                  <a:pt x="1382" y="932"/>
                </a:lnTo>
                <a:lnTo>
                  <a:pt x="1389" y="908"/>
                </a:lnTo>
                <a:lnTo>
                  <a:pt x="1392" y="883"/>
                </a:lnTo>
                <a:lnTo>
                  <a:pt x="1392" y="126"/>
                </a:lnTo>
                <a:lnTo>
                  <a:pt x="1389" y="101"/>
                </a:lnTo>
                <a:lnTo>
                  <a:pt x="1382" y="77"/>
                </a:lnTo>
                <a:lnTo>
                  <a:pt x="1371" y="56"/>
                </a:lnTo>
                <a:lnTo>
                  <a:pt x="1356" y="37"/>
                </a:lnTo>
                <a:lnTo>
                  <a:pt x="1337" y="22"/>
                </a:lnTo>
                <a:lnTo>
                  <a:pt x="1315" y="10"/>
                </a:lnTo>
                <a:lnTo>
                  <a:pt x="1292" y="3"/>
                </a:lnTo>
                <a:lnTo>
                  <a:pt x="1266" y="0"/>
                </a:lnTo>
                <a:lnTo>
                  <a:pt x="126" y="0"/>
                </a:lnTo>
              </a:path>
            </a:pathLst>
          </a:custGeom>
          <a:noFill/>
          <a:ln cap="rnd"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4038480"/>
            <a:ext cx="2211480" cy="765360"/>
          </a:xfrm>
          <a:custGeom>
            <a:avLst/>
            <a:gdLst/>
            <a:ahLst/>
            <a:rect l="l" t="t" r="r" b="b"/>
            <a:pathLst>
              <a:path w="1393" h="482">
                <a:moveTo>
                  <a:pt x="60" y="0"/>
                </a:moveTo>
                <a:lnTo>
                  <a:pt x="37" y="5"/>
                </a:lnTo>
                <a:lnTo>
                  <a:pt x="18" y="18"/>
                </a:lnTo>
                <a:lnTo>
                  <a:pt x="5" y="37"/>
                </a:lnTo>
                <a:lnTo>
                  <a:pt x="0" y="60"/>
                </a:lnTo>
                <a:lnTo>
                  <a:pt x="0" y="420"/>
                </a:lnTo>
                <a:lnTo>
                  <a:pt x="5" y="444"/>
                </a:lnTo>
                <a:lnTo>
                  <a:pt x="18" y="463"/>
                </a:lnTo>
                <a:lnTo>
                  <a:pt x="37" y="476"/>
                </a:lnTo>
                <a:lnTo>
                  <a:pt x="60" y="481"/>
                </a:lnTo>
                <a:lnTo>
                  <a:pt x="1332" y="481"/>
                </a:lnTo>
                <a:lnTo>
                  <a:pt x="1356" y="476"/>
                </a:lnTo>
                <a:lnTo>
                  <a:pt x="1375" y="463"/>
                </a:lnTo>
                <a:lnTo>
                  <a:pt x="1388" y="444"/>
                </a:lnTo>
                <a:lnTo>
                  <a:pt x="1392" y="420"/>
                </a:lnTo>
                <a:lnTo>
                  <a:pt x="1392" y="60"/>
                </a:lnTo>
                <a:lnTo>
                  <a:pt x="1388" y="37"/>
                </a:lnTo>
                <a:lnTo>
                  <a:pt x="1375" y="18"/>
                </a:lnTo>
                <a:lnTo>
                  <a:pt x="1356" y="5"/>
                </a:lnTo>
                <a:lnTo>
                  <a:pt x="1332" y="0"/>
                </a:lnTo>
                <a:lnTo>
                  <a:pt x="60" y="0"/>
                </a:lnTo>
              </a:path>
            </a:pathLst>
          </a:custGeom>
          <a:noFill/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74640" y="1720800"/>
            <a:ext cx="2868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Decorrelation of dihadr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P-Liang Zhe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F283-F75B-4B27-9205-3425C004610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09480" y="1131840"/>
            <a:ext cx="3413160" cy="2460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09480" y="3714840"/>
            <a:ext cx="3476880" cy="2469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343400" y="1447920"/>
            <a:ext cx="3886200" cy="16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30+100 GeV 10M ev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0.5&lt;Q2&lt;1.5, 0.6&lt;y&lt;0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|η|&lt;4  ( 2&lt;θ&lt;178 deg),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1400" spc="-1" strike="noStrike" baseline="30000">
                <a:solidFill>
                  <a:srgbClr val="000000"/>
                </a:solidFill>
                <a:latin typeface="Arial"/>
              </a:rPr>
              <a:t>Trig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&gt;2,  1&lt;p</a:t>
            </a:r>
            <a:r>
              <a:rPr b="1" lang="zh-CN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1400" spc="-1" strike="noStrike" baseline="30000">
                <a:solidFill>
                  <a:srgbClr val="000000"/>
                </a:solidFill>
                <a:latin typeface="Arial"/>
              </a:rPr>
              <a:t>Asso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&lt;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0.15&lt;z </a:t>
            </a:r>
            <a:r>
              <a:rPr b="1" lang="zh-CN" sz="1400" spc="-1" strike="noStrike" baseline="30000">
                <a:solidFill>
                  <a:srgbClr val="000000"/>
                </a:solidFill>
                <a:latin typeface="Arial"/>
              </a:rPr>
              <a:t>Trig,Asso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&lt;0.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Comic Sans MS"/>
              </a:rPr>
              <a:t>Compare ep and e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648320" y="3733920"/>
            <a:ext cx="3468600" cy="2473200"/>
            <a:chOff x="4648320" y="3733920"/>
            <a:chExt cx="3468600" cy="2473200"/>
          </a:xfrm>
        </p:grpSpPr>
        <p:pic>
          <p:nvPicPr>
            <p:cNvPr id="201" name="" descr=""/>
            <p:cNvPicPr/>
            <p:nvPr/>
          </p:nvPicPr>
          <p:blipFill>
            <a:blip r:embed="rId3"/>
            <a:stretch/>
          </p:blipFill>
          <p:spPr>
            <a:xfrm>
              <a:off x="4648320" y="3733920"/>
              <a:ext cx="3468600" cy="24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4"/>
            <a:stretch/>
          </p:blipFill>
          <p:spPr>
            <a:xfrm>
              <a:off x="4648320" y="3733920"/>
              <a:ext cx="3449520" cy="24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5257800" y="5334120"/>
              <a:ext cx="24382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uppression factor:  0.86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828800" y="1371600"/>
            <a:ext cx="1371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=0.431±0.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1844640"/>
            <a:ext cx="1371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=0.555±0.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3946680"/>
            <a:ext cx="1371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=0.452±0.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4419720"/>
            <a:ext cx="1371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=0.593±0.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99072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7400" y="3595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1371600"/>
            <a:ext cx="457200" cy="1981080"/>
          </a:xfrm>
          <a:prstGeom prst="rect">
            <a:avLst/>
          </a:prstGeom>
          <a:solidFill>
            <a:srgbClr val="a5002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95480" y="3962520"/>
            <a:ext cx="457200" cy="1981080"/>
          </a:xfrm>
          <a:prstGeom prst="rect">
            <a:avLst/>
          </a:prstGeom>
          <a:solidFill>
            <a:srgbClr val="a5002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3200400"/>
            <a:ext cx="3276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uclear PDF gives no strong suppression eff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P-Liang Zhe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9F3C-055E-4CD0-87E0-95DF608EDE9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ompare with prediction from satu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4208400" cy="33638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981080" y="153828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C white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257800" y="1905120"/>
            <a:ext cx="3216240" cy="27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0"/>
                </a:solidFill>
                <a:latin typeface="Comic Sans MS"/>
              </a:rPr>
              <a:t>Saturation expectation: back to back peak washed out by multiple gluon interaction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0"/>
                </a:solidFill>
                <a:latin typeface="Comic Sans MS"/>
              </a:rPr>
              <a:t>No saturation: peak persists without saturation ep-&gt;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90"/>
                </a:solidFill>
                <a:latin typeface="Comic Sans MS"/>
              </a:rPr>
              <a:t>Saturation and No saturation are easy to resolve with a few months runn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04320" y="5546880"/>
            <a:ext cx="4575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aturation model well constr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NP-Liang Zhe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78DE-79CF-42A8-911B-5B182BFC7A5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27/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04:15:44Z</dcterms:created>
  <dc:creator>liang</dc:creator>
  <dc:description/>
  <dc:language>en-US</dc:language>
  <cp:lastModifiedBy>liang</cp:lastModifiedBy>
  <dcterms:modified xsi:type="dcterms:W3CDTF">2012-10-18T22:15:26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